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9245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879560" y="5375160"/>
            <a:ext cx="9245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511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6617160" y="2628720"/>
            <a:ext cx="4511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1879560" y="800280"/>
            <a:ext cx="9245520" cy="70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6617160" y="2628720"/>
            <a:ext cx="4511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1879560" y="537516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511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66171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6617160" y="537516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66171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1879560" y="5375160"/>
            <a:ext cx="9245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9245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1879560" y="5375160"/>
            <a:ext cx="9245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66171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1879560" y="537516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617160" y="537516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5005800" y="262872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8131680" y="262872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1879560" y="537516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5005800" y="537516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8131680" y="537516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6171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879560" y="537516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6617160" y="537516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1879560" y="2628720"/>
            <a:ext cx="92455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9245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511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6617160" y="2628720"/>
            <a:ext cx="4511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ubTitle"/>
          </p:nvPr>
        </p:nvSpPr>
        <p:spPr>
          <a:xfrm>
            <a:off x="1879560" y="800280"/>
            <a:ext cx="9245520" cy="70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6617160" y="2628720"/>
            <a:ext cx="4511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1879560" y="537516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511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66171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617160" y="537516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66171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1879560" y="5375160"/>
            <a:ext cx="9245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9245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1879560" y="5375160"/>
            <a:ext cx="9245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66171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1879560" y="537516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6617160" y="537516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05800" y="262872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8131680" y="262872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879560" y="537516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5005800" y="537516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8131680" y="537516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5005800" y="262872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8131680" y="262872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1879560" y="537516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393" name="PlaceHolder 6"/>
          <p:cNvSpPr>
            <a:spLocks noGrp="1"/>
          </p:cNvSpPr>
          <p:nvPr>
            <p:ph/>
          </p:nvPr>
        </p:nvSpPr>
        <p:spPr>
          <a:xfrm>
            <a:off x="5005800" y="537516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394" name="PlaceHolder 7"/>
          <p:cNvSpPr>
            <a:spLocks noGrp="1"/>
          </p:cNvSpPr>
          <p:nvPr>
            <p:ph/>
          </p:nvPr>
        </p:nvSpPr>
        <p:spPr>
          <a:xfrm>
            <a:off x="8131680" y="537516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subTitle"/>
          </p:nvPr>
        </p:nvSpPr>
        <p:spPr>
          <a:xfrm>
            <a:off x="1879560" y="2628720"/>
            <a:ext cx="92455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9245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511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6617160" y="2628720"/>
            <a:ext cx="4511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ubTitle"/>
          </p:nvPr>
        </p:nvSpPr>
        <p:spPr>
          <a:xfrm>
            <a:off x="1879560" y="800280"/>
            <a:ext cx="9245520" cy="70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6617160" y="2628720"/>
            <a:ext cx="4511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1879560" y="537516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511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66171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617160" y="537516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66171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1879560" y="5375160"/>
            <a:ext cx="9245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9245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1879560" y="5375160"/>
            <a:ext cx="9245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66171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1879560" y="537516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6617160" y="537516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5005800" y="262872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8131680" y="262872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/>
          </p:nvPr>
        </p:nvSpPr>
        <p:spPr>
          <a:xfrm>
            <a:off x="1879560" y="537516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434" name="PlaceHolder 6"/>
          <p:cNvSpPr>
            <a:spLocks noGrp="1"/>
          </p:cNvSpPr>
          <p:nvPr>
            <p:ph/>
          </p:nvPr>
        </p:nvSpPr>
        <p:spPr>
          <a:xfrm>
            <a:off x="5005800" y="537516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435" name="PlaceHolder 7"/>
          <p:cNvSpPr>
            <a:spLocks noGrp="1"/>
          </p:cNvSpPr>
          <p:nvPr>
            <p:ph/>
          </p:nvPr>
        </p:nvSpPr>
        <p:spPr>
          <a:xfrm>
            <a:off x="8131680" y="537516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subTitle"/>
          </p:nvPr>
        </p:nvSpPr>
        <p:spPr>
          <a:xfrm>
            <a:off x="1879560" y="2628720"/>
            <a:ext cx="92455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9245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511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6617160" y="2628720"/>
            <a:ext cx="4511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ubTitle"/>
          </p:nvPr>
        </p:nvSpPr>
        <p:spPr>
          <a:xfrm>
            <a:off x="1879560" y="800280"/>
            <a:ext cx="9245520" cy="70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6617160" y="2628720"/>
            <a:ext cx="4511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1879560" y="537516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879560" y="2628720"/>
            <a:ext cx="92455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511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66171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6617160" y="537516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66171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1879560" y="5375160"/>
            <a:ext cx="9245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9245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1879560" y="5375160"/>
            <a:ext cx="9245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66171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1879560" y="537516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6617160" y="537516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5005800" y="262872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8131680" y="262872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/>
          </p:nvPr>
        </p:nvSpPr>
        <p:spPr>
          <a:xfrm>
            <a:off x="1879560" y="537516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473" name="PlaceHolder 6"/>
          <p:cNvSpPr>
            <a:spLocks noGrp="1"/>
          </p:cNvSpPr>
          <p:nvPr>
            <p:ph/>
          </p:nvPr>
        </p:nvSpPr>
        <p:spPr>
          <a:xfrm>
            <a:off x="5005800" y="537516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474" name="PlaceHolder 7"/>
          <p:cNvSpPr>
            <a:spLocks noGrp="1"/>
          </p:cNvSpPr>
          <p:nvPr>
            <p:ph/>
          </p:nvPr>
        </p:nvSpPr>
        <p:spPr>
          <a:xfrm>
            <a:off x="8131680" y="537516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9245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511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6617160" y="2628720"/>
            <a:ext cx="4511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1879560" y="800280"/>
            <a:ext cx="9245520" cy="70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617160" y="2628720"/>
            <a:ext cx="4511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1879560" y="537516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879560" y="2628720"/>
            <a:ext cx="92455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511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6171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617160" y="537516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6171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879560" y="5375160"/>
            <a:ext cx="9245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9245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1879560" y="5375160"/>
            <a:ext cx="9245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6171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879560" y="537516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6617160" y="537516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005800" y="262872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131680" y="262872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1879560" y="537516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5005800" y="537516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8131680" y="537516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879560" y="2628720"/>
            <a:ext cx="92455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9245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511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617160" y="2628720"/>
            <a:ext cx="4511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9245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1879560" y="800280"/>
            <a:ext cx="9245520" cy="70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6617160" y="2628720"/>
            <a:ext cx="4511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879560" y="537516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511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6171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617160" y="537516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6171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879560" y="5375160"/>
            <a:ext cx="9245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9245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1879560" y="5375160"/>
            <a:ext cx="9245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6171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1879560" y="537516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6617160" y="537516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005800" y="262872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8131680" y="262872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1879560" y="537516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5005800" y="537516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8131680" y="537516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879560" y="2628720"/>
            <a:ext cx="92455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9245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511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6617160" y="2628720"/>
            <a:ext cx="4511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511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617160" y="2628720"/>
            <a:ext cx="4511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1879560" y="800280"/>
            <a:ext cx="9245520" cy="70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617160" y="2628720"/>
            <a:ext cx="4511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1879560" y="537516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511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6171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617160" y="537516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66171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1879560" y="5375160"/>
            <a:ext cx="9245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9245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1879560" y="5375160"/>
            <a:ext cx="9245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6171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1879560" y="537516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6617160" y="537516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5005800" y="262872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8131680" y="262872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1879560" y="537516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5005800" y="537516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8131680" y="537516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879560" y="2628720"/>
            <a:ext cx="92455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9245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511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6617160" y="2628720"/>
            <a:ext cx="4511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1879560" y="800280"/>
            <a:ext cx="9245520" cy="70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6617160" y="2628720"/>
            <a:ext cx="4511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879560" y="537516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511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66171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617160" y="537516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66171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1879560" y="5375160"/>
            <a:ext cx="9245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9245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1879560" y="5375160"/>
            <a:ext cx="9245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66171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1879560" y="537516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6617160" y="537516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879560" y="800280"/>
            <a:ext cx="9245520" cy="70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5005800" y="262872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131680" y="262872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1879560" y="537516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5005800" y="537516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8131680" y="537516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1879560" y="2628720"/>
            <a:ext cx="92455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9245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511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6617160" y="2628720"/>
            <a:ext cx="4511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1879560" y="800280"/>
            <a:ext cx="9245520" cy="70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6617160" y="2628720"/>
            <a:ext cx="4511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1879560" y="537516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511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66171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617160" y="537516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66171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1879560" y="5375160"/>
            <a:ext cx="9245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6617160" y="2628720"/>
            <a:ext cx="4511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879560" y="537516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9245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1879560" y="5375160"/>
            <a:ext cx="9245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6171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1879560" y="537516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6617160" y="537516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5005800" y="262872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8131680" y="262872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1879560" y="537516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5005800" y="537516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8131680" y="537516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1879560" y="2628720"/>
            <a:ext cx="92455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9245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511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6617160" y="2628720"/>
            <a:ext cx="4511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1879560" y="800280"/>
            <a:ext cx="9245520" cy="70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6617160" y="2628720"/>
            <a:ext cx="4511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1879560" y="537516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511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6171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617160" y="537516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511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66171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617160" y="537516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66171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1879560" y="5375160"/>
            <a:ext cx="9245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9245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1879560" y="5375160"/>
            <a:ext cx="9245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66171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1879560" y="537516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6617160" y="537516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005800" y="262872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131680" y="262872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1879560" y="537516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5005800" y="537516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8131680" y="537516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1879560" y="2628720"/>
            <a:ext cx="92455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9245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511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6617160" y="2628720"/>
            <a:ext cx="4511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6171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879560" y="5375160"/>
            <a:ext cx="9245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1879560" y="800280"/>
            <a:ext cx="9245520" cy="70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617160" y="2628720"/>
            <a:ext cx="4511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1879560" y="537516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511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66171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617160" y="537516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6171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1879560" y="5375160"/>
            <a:ext cx="9245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9245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1879560" y="5375160"/>
            <a:ext cx="9245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66171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1879560" y="537516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6617160" y="537516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5005800" y="262872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131680" y="262872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1879560" y="537516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5005800" y="537516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8131680" y="537516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1879560" y="2628720"/>
            <a:ext cx="92455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9245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21.xml"/><Relationship Id="rId7" Type="http://schemas.openxmlformats.org/officeDocument/2006/relationships/slideLayout" Target="../slideLayouts/slideLayout122.xml"/><Relationship Id="rId8" Type="http://schemas.openxmlformats.org/officeDocument/2006/relationships/slideLayout" Target="../slideLayouts/slideLayout123.xml"/><Relationship Id="rId9" Type="http://schemas.openxmlformats.org/officeDocument/2006/relationships/slideLayout" Target="../slideLayouts/slideLayout124.xml"/><Relationship Id="rId10" Type="http://schemas.openxmlformats.org/officeDocument/2006/relationships/slideLayout" Target="../slideLayouts/slideLayout125.xml"/><Relationship Id="rId11" Type="http://schemas.openxmlformats.org/officeDocument/2006/relationships/slideLayout" Target="../slideLayouts/slideLayout126.xml"/><Relationship Id="rId12" Type="http://schemas.openxmlformats.org/officeDocument/2006/relationships/slideLayout" Target="../slideLayouts/slideLayout127.xml"/><Relationship Id="rId13" Type="http://schemas.openxmlformats.org/officeDocument/2006/relationships/slideLayout" Target="../slideLayouts/slideLayout128.xml"/><Relationship Id="rId14" Type="http://schemas.openxmlformats.org/officeDocument/2006/relationships/slideLayout" Target="../slideLayouts/slideLayout129.xml"/><Relationship Id="rId15" Type="http://schemas.openxmlformats.org/officeDocument/2006/relationships/slideLayout" Target="../slideLayouts/slideLayout130.xml"/><Relationship Id="rId16" Type="http://schemas.openxmlformats.org/officeDocument/2006/relationships/slideLayout" Target="../slideLayouts/slideLayout131.xml"/><Relationship Id="rId17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79280" y="1320480"/>
            <a:ext cx="10845720" cy="4444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000000"/>
                </a:solidFill>
                <a:latin typeface="Party LET"/>
              </a:rPr>
              <a:t>Click to edit the title text format</a:t>
            </a:r>
            <a:endParaRPr b="0" lang="en-US" sz="12000" spc="-1" strike="noStrike">
              <a:solidFill>
                <a:srgbClr val="000000"/>
              </a:solidFill>
              <a:latin typeface="Party LET"/>
            </a:endParaRPr>
          </a:p>
        </p:txBody>
      </p:sp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11480760" y="304920"/>
            <a:ext cx="1155600" cy="1130040"/>
          </a:xfrm>
          <a:prstGeom prst="rect">
            <a:avLst/>
          </a:prstGeom>
          <a:ln w="0">
            <a:noFill/>
          </a:ln>
        </p:spPr>
      </p:pic>
      <p:pic>
        <p:nvPicPr>
          <p:cNvPr id="2" name="" descr=""/>
          <p:cNvPicPr/>
          <p:nvPr/>
        </p:nvPicPr>
        <p:blipFill>
          <a:blip r:embed="rId4"/>
          <a:stretch/>
        </p:blipFill>
        <p:spPr>
          <a:xfrm>
            <a:off x="419040" y="7759800"/>
            <a:ext cx="1612800" cy="1562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396800" y="5765400"/>
            <a:ext cx="10210680" cy="2032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3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Savoye LET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  <a:p>
            <a:pPr lvl="1" algn="ctr">
              <a:buClr>
                <a:srgbClr val="000000"/>
              </a:buClr>
              <a:buFont typeface="Savoye LE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Savoye LET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  <a:p>
            <a:pPr lvl="2" algn="ctr">
              <a:buClr>
                <a:srgbClr val="000000"/>
              </a:buClr>
              <a:buFont typeface="Savoye LE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Savoye LET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  <a:p>
            <a:pPr lvl="3" algn="ctr">
              <a:buClr>
                <a:srgbClr val="000000"/>
              </a:buClr>
              <a:buFont typeface="Savoye LE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Savoye LET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  <a:p>
            <a:pPr lvl="4" algn="ctr">
              <a:buClr>
                <a:srgbClr val="000000"/>
              </a:buClr>
              <a:buFont typeface="Savoye LE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Savoye LET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  <a:p>
            <a:pPr lvl="5" algn="ctr">
              <a:buClr>
                <a:srgbClr val="000000"/>
              </a:buClr>
              <a:buFont typeface="Savoye LE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Savoye LET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  <a:p>
            <a:pPr lvl="6" algn="ctr">
              <a:buClr>
                <a:srgbClr val="000000"/>
              </a:buClr>
              <a:buFont typeface="Savoye LE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Savoye LET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Party LET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1879560" y="2628720"/>
            <a:ext cx="449568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57000"/>
          </a:bodyPr>
          <a:p>
            <a:pPr marL="483840" indent="-324720">
              <a:spcBef>
                <a:spcPts val="1100"/>
              </a:spcBef>
              <a:buClr>
                <a:srgbClr val="000000"/>
              </a:buClr>
              <a:buSzPct val="62000"/>
              <a:buFont typeface="Savoye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Click to edit the outline text format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lvl="1" marL="678240" indent="-302040">
              <a:spcBef>
                <a:spcPts val="1100"/>
              </a:spcBef>
              <a:buClr>
                <a:srgbClr val="000000"/>
              </a:buClr>
              <a:buSzPct val="62000"/>
              <a:buFont typeface="Savoye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Second Outline Level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lvl="2" marL="872280" indent="-278640">
              <a:spcBef>
                <a:spcPts val="1100"/>
              </a:spcBef>
              <a:buClr>
                <a:srgbClr val="000000"/>
              </a:buClr>
              <a:buSzPct val="62000"/>
              <a:buFont typeface="Savoye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Third Outline Level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lvl="3" marL="1103760" indent="-278640">
              <a:spcBef>
                <a:spcPts val="1100"/>
              </a:spcBef>
              <a:buClr>
                <a:srgbClr val="000000"/>
              </a:buClr>
              <a:buSzPct val="62000"/>
              <a:buFont typeface="Savoye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Fourth Outline Level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lvl="4" marL="1320840" indent="-278640">
              <a:spcBef>
                <a:spcPts val="1100"/>
              </a:spcBef>
              <a:buClr>
                <a:srgbClr val="000000"/>
              </a:buClr>
              <a:buSzPct val="62000"/>
              <a:buFont typeface="Savoye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Fifth Outline Level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lvl="5" marL="1320840" indent="-278640">
              <a:spcBef>
                <a:spcPts val="1100"/>
              </a:spcBef>
              <a:buClr>
                <a:srgbClr val="000000"/>
              </a:buClr>
              <a:buSzPct val="62000"/>
              <a:buFont typeface="Savoye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Sixth Outline Level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lvl="6" marL="1320840" indent="-278640">
              <a:spcBef>
                <a:spcPts val="1100"/>
              </a:spcBef>
              <a:buClr>
                <a:srgbClr val="000000"/>
              </a:buClr>
              <a:buSzPct val="62000"/>
              <a:buFont typeface="Savoye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Seventh Outline Level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pic>
        <p:nvPicPr>
          <p:cNvPr id="357" name="" descr=""/>
          <p:cNvPicPr/>
          <p:nvPr/>
        </p:nvPicPr>
        <p:blipFill>
          <a:blip r:embed="rId3"/>
          <a:stretch/>
        </p:blipFill>
        <p:spPr>
          <a:xfrm>
            <a:off x="11480760" y="304920"/>
            <a:ext cx="1155600" cy="1130040"/>
          </a:xfrm>
          <a:prstGeom prst="rect">
            <a:avLst/>
          </a:prstGeom>
          <a:ln w="0">
            <a:noFill/>
          </a:ln>
        </p:spPr>
      </p:pic>
      <p:pic>
        <p:nvPicPr>
          <p:cNvPr id="358" name="" descr=""/>
          <p:cNvPicPr/>
          <p:nvPr/>
        </p:nvPicPr>
        <p:blipFill>
          <a:blip r:embed="rId4"/>
          <a:stretch/>
        </p:blipFill>
        <p:spPr>
          <a:xfrm>
            <a:off x="419040" y="7759800"/>
            <a:ext cx="1612800" cy="1562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091880" y="1854360"/>
            <a:ext cx="5918040" cy="3022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Party LET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1219320" y="5549400"/>
            <a:ext cx="5651280" cy="1435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9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Savoye LET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  <a:p>
            <a:pPr lvl="1" algn="ctr">
              <a:buClr>
                <a:srgbClr val="000000"/>
              </a:buClr>
              <a:buFont typeface="Savoye LE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Savoye LET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  <a:p>
            <a:pPr lvl="2" algn="ctr">
              <a:buClr>
                <a:srgbClr val="000000"/>
              </a:buClr>
              <a:buFont typeface="Savoye LE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Savoye LET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  <a:p>
            <a:pPr lvl="3" algn="ctr">
              <a:buClr>
                <a:srgbClr val="000000"/>
              </a:buClr>
              <a:buFont typeface="Savoye LE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Savoye LET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  <a:p>
            <a:pPr lvl="4" algn="ctr">
              <a:buClr>
                <a:srgbClr val="000000"/>
              </a:buClr>
              <a:buFont typeface="Savoye LE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Savoye LET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  <a:p>
            <a:pPr lvl="5" algn="ctr">
              <a:buClr>
                <a:srgbClr val="000000"/>
              </a:buClr>
              <a:buFont typeface="Savoye LE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Savoye LET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  <a:p>
            <a:pPr lvl="6" algn="ctr">
              <a:buClr>
                <a:srgbClr val="000000"/>
              </a:buClr>
              <a:buFont typeface="Savoye LE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Savoye LET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</p:txBody>
      </p:sp>
      <p:pic>
        <p:nvPicPr>
          <p:cNvPr id="397" name="" descr=""/>
          <p:cNvPicPr/>
          <p:nvPr/>
        </p:nvPicPr>
        <p:blipFill>
          <a:blip r:embed="rId3"/>
          <a:stretch/>
        </p:blipFill>
        <p:spPr>
          <a:xfrm>
            <a:off x="11480760" y="304920"/>
            <a:ext cx="1155600" cy="1130040"/>
          </a:xfrm>
          <a:prstGeom prst="rect">
            <a:avLst/>
          </a:prstGeom>
          <a:ln w="0">
            <a:noFill/>
          </a:ln>
        </p:spPr>
      </p:pic>
      <p:pic>
        <p:nvPicPr>
          <p:cNvPr id="398" name="" descr=""/>
          <p:cNvPicPr/>
          <p:nvPr/>
        </p:nvPicPr>
        <p:blipFill>
          <a:blip r:embed="rId4"/>
          <a:stretch/>
        </p:blipFill>
        <p:spPr>
          <a:xfrm>
            <a:off x="419040" y="7759800"/>
            <a:ext cx="1612800" cy="1562040"/>
          </a:xfrm>
          <a:prstGeom prst="rect">
            <a:avLst/>
          </a:prstGeom>
          <a:ln w="0">
            <a:noFill/>
          </a:ln>
        </p:spPr>
      </p:pic>
      <p:pic>
        <p:nvPicPr>
          <p:cNvPr id="399" name="" descr=""/>
          <p:cNvPicPr/>
          <p:nvPr/>
        </p:nvPicPr>
        <p:blipFill>
          <a:blip r:embed="rId5"/>
          <a:stretch/>
        </p:blipFill>
        <p:spPr>
          <a:xfrm>
            <a:off x="1409760" y="4775040"/>
            <a:ext cx="52830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6"/>
    <p:sldLayoutId id="2147483780" r:id="rId7"/>
    <p:sldLayoutId id="2147483781" r:id="rId8"/>
    <p:sldLayoutId id="2147483782" r:id="rId9"/>
    <p:sldLayoutId id="2147483783" r:id="rId10"/>
    <p:sldLayoutId id="2147483784" r:id="rId11"/>
    <p:sldLayoutId id="2147483785" r:id="rId12"/>
    <p:sldLayoutId id="2147483786" r:id="rId13"/>
    <p:sldLayoutId id="2147483787" r:id="rId14"/>
    <p:sldLayoutId id="2147483788" r:id="rId15"/>
    <p:sldLayoutId id="2147483789" r:id="rId16"/>
    <p:sldLayoutId id="2147483790" r:id="rId17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body"/>
          </p:nvPr>
        </p:nvSpPr>
        <p:spPr>
          <a:xfrm>
            <a:off x="1879560" y="1599840"/>
            <a:ext cx="9245520" cy="628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 fontScale="85000"/>
          </a:bodyPr>
          <a:p>
            <a:pPr marL="765000" indent="-484200">
              <a:spcBef>
                <a:spcPts val="2701"/>
              </a:spcBef>
              <a:buClr>
                <a:srgbClr val="000000"/>
              </a:buClr>
              <a:buSzPct val="62000"/>
              <a:buFont typeface="Savoye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Click to edit the outline text format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lvl="1" marL="1054800" indent="-450360">
              <a:spcBef>
                <a:spcPts val="2701"/>
              </a:spcBef>
              <a:buClr>
                <a:srgbClr val="000000"/>
              </a:buClr>
              <a:buSzPct val="62000"/>
              <a:buFont typeface="Savoye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Second Outline Level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lvl="2" marL="1343880" indent="-415440">
              <a:spcBef>
                <a:spcPts val="2701"/>
              </a:spcBef>
              <a:buClr>
                <a:srgbClr val="000000"/>
              </a:buClr>
              <a:buSzPct val="62000"/>
              <a:buFont typeface="Savoye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Third Outline Level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lvl="3" marL="1689120" indent="-415440">
              <a:spcBef>
                <a:spcPts val="2701"/>
              </a:spcBef>
              <a:buClr>
                <a:srgbClr val="000000"/>
              </a:buClr>
              <a:buSzPct val="62000"/>
              <a:buFont typeface="Savoye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Fourth Outline Level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lvl="4" marL="2013120" indent="-415440">
              <a:spcBef>
                <a:spcPts val="2701"/>
              </a:spcBef>
              <a:buClr>
                <a:srgbClr val="000000"/>
              </a:buClr>
              <a:buSzPct val="62000"/>
              <a:buFont typeface="Savoye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Fifth Outline Level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lvl="5" marL="2013120" indent="-415440">
              <a:spcBef>
                <a:spcPts val="2701"/>
              </a:spcBef>
              <a:buClr>
                <a:srgbClr val="000000"/>
              </a:buClr>
              <a:buSzPct val="62000"/>
              <a:buFont typeface="Savoye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Sixth Outline Level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lvl="6" marL="2013120" indent="-415440">
              <a:spcBef>
                <a:spcPts val="2701"/>
              </a:spcBef>
              <a:buClr>
                <a:srgbClr val="000000"/>
              </a:buClr>
              <a:buSzPct val="62000"/>
              <a:buFont typeface="Savoye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Seventh Outline Level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pic>
        <p:nvPicPr>
          <p:cNvPr id="437" name="" descr=""/>
          <p:cNvPicPr/>
          <p:nvPr/>
        </p:nvPicPr>
        <p:blipFill>
          <a:blip r:embed="rId3"/>
          <a:stretch/>
        </p:blipFill>
        <p:spPr>
          <a:xfrm>
            <a:off x="11480760" y="304920"/>
            <a:ext cx="1155600" cy="1130040"/>
          </a:xfrm>
          <a:prstGeom prst="rect">
            <a:avLst/>
          </a:prstGeom>
          <a:ln w="0">
            <a:noFill/>
          </a:ln>
        </p:spPr>
      </p:pic>
      <p:pic>
        <p:nvPicPr>
          <p:cNvPr id="438" name="" descr=""/>
          <p:cNvPicPr/>
          <p:nvPr/>
        </p:nvPicPr>
        <p:blipFill>
          <a:blip r:embed="rId4"/>
          <a:stretch/>
        </p:blipFill>
        <p:spPr>
          <a:xfrm>
            <a:off x="419040" y="7759800"/>
            <a:ext cx="1612800" cy="1562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3"/>
          <a:stretch/>
        </p:blipFill>
        <p:spPr>
          <a:xfrm>
            <a:off x="11480760" y="304920"/>
            <a:ext cx="1155600" cy="1130040"/>
          </a:xfrm>
          <a:prstGeom prst="rect">
            <a:avLst/>
          </a:prstGeom>
          <a:ln w="0">
            <a:noFill/>
          </a:ln>
        </p:spPr>
      </p:pic>
      <p:pic>
        <p:nvPicPr>
          <p:cNvPr id="41" name="" descr=""/>
          <p:cNvPicPr/>
          <p:nvPr/>
        </p:nvPicPr>
        <p:blipFill>
          <a:blip r:embed="rId4"/>
          <a:stretch/>
        </p:blipFill>
        <p:spPr>
          <a:xfrm>
            <a:off x="419040" y="7759800"/>
            <a:ext cx="1612800" cy="15620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Party LET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879560" y="2628720"/>
            <a:ext cx="9245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4000"/>
          </a:bodyPr>
          <a:p>
            <a:pPr marL="713160" indent="-478440">
              <a:spcBef>
                <a:spcPts val="1100"/>
              </a:spcBef>
              <a:buClr>
                <a:srgbClr val="000000"/>
              </a:buClr>
              <a:buSzPct val="62000"/>
              <a:buFont typeface="Savoye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Click to edit the outline text format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lvl="1" marL="999720" indent="-445320">
              <a:spcBef>
                <a:spcPts val="1100"/>
              </a:spcBef>
              <a:buClr>
                <a:srgbClr val="000000"/>
              </a:buClr>
              <a:buSzPct val="62000"/>
              <a:buFont typeface="Savoye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Second Outline Level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lvl="2" marL="1285200" indent="-410400">
              <a:spcBef>
                <a:spcPts val="1100"/>
              </a:spcBef>
              <a:buClr>
                <a:srgbClr val="000000"/>
              </a:buClr>
              <a:buSzPct val="62000"/>
              <a:buFont typeface="Savoye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Third Outline Level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lvl="3" marL="1626840" indent="-410400">
              <a:spcBef>
                <a:spcPts val="1100"/>
              </a:spcBef>
              <a:buClr>
                <a:srgbClr val="000000"/>
              </a:buClr>
              <a:buSzPct val="62000"/>
              <a:buFont typeface="Savoye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Fourth Outline Level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lvl="4" marL="1946520" indent="-410400">
              <a:spcBef>
                <a:spcPts val="1100"/>
              </a:spcBef>
              <a:buClr>
                <a:srgbClr val="000000"/>
              </a:buClr>
              <a:buSzPct val="62000"/>
              <a:buFont typeface="Savoye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Fifth Outline Level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lvl="5" marL="1946520" indent="-410400">
              <a:spcBef>
                <a:spcPts val="1100"/>
              </a:spcBef>
              <a:buClr>
                <a:srgbClr val="000000"/>
              </a:buClr>
              <a:buSzPct val="62000"/>
              <a:buFont typeface="Savoye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Sixth Outline Level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lvl="6" marL="1946520" indent="-410400">
              <a:spcBef>
                <a:spcPts val="1100"/>
              </a:spcBef>
              <a:buClr>
                <a:srgbClr val="000000"/>
              </a:buClr>
              <a:buSzPct val="62000"/>
              <a:buFont typeface="Savoye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Seventh Outline Level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879560" y="2527200"/>
            <a:ext cx="9245520" cy="444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000000"/>
                </a:solidFill>
                <a:latin typeface="Party LET"/>
              </a:rPr>
              <a:t>Click to edit the title text format</a:t>
            </a:r>
            <a:endParaRPr b="0" lang="en-US" sz="12000" spc="-1" strike="noStrike">
              <a:solidFill>
                <a:srgbClr val="000000"/>
              </a:solidFill>
              <a:latin typeface="Party LET"/>
            </a:endParaRPr>
          </a:p>
        </p:txBody>
      </p:sp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11480760" y="304920"/>
            <a:ext cx="1155600" cy="113004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419040" y="7759800"/>
            <a:ext cx="1612800" cy="1562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057400" y="6426000"/>
            <a:ext cx="888984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Party LET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11480760" y="304920"/>
            <a:ext cx="1155600" cy="113004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4"/>
          <a:stretch/>
        </p:blipFill>
        <p:spPr>
          <a:xfrm>
            <a:off x="419040" y="7759800"/>
            <a:ext cx="1612800" cy="1562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11480760" y="304920"/>
            <a:ext cx="1155600" cy="113004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4"/>
          <a:stretch/>
        </p:blipFill>
        <p:spPr>
          <a:xfrm>
            <a:off x="419040" y="7759800"/>
            <a:ext cx="1612800" cy="1562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11480760" y="304920"/>
            <a:ext cx="1155600" cy="113004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4"/>
          <a:stretch/>
        </p:blipFill>
        <p:spPr>
          <a:xfrm>
            <a:off x="419040" y="7759800"/>
            <a:ext cx="1612800" cy="1562040"/>
          </a:xfrm>
          <a:prstGeom prst="rect">
            <a:avLst/>
          </a:prstGeom>
          <a:ln w="0">
            <a:noFill/>
          </a:ln>
        </p:spPr>
      </p:pic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Party LET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Party LET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7861320" y="2628720"/>
            <a:ext cx="326376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46000"/>
          </a:bodyPr>
          <a:p>
            <a:pPr marL="390600" indent="-262080">
              <a:spcBef>
                <a:spcPts val="1100"/>
              </a:spcBef>
              <a:buClr>
                <a:srgbClr val="000000"/>
              </a:buClr>
              <a:buSzPct val="62000"/>
              <a:buFont typeface="Savoye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Click to edit the outline text format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lvl="1" marL="547560" indent="-243720">
              <a:spcBef>
                <a:spcPts val="1100"/>
              </a:spcBef>
              <a:buClr>
                <a:srgbClr val="000000"/>
              </a:buClr>
              <a:buSzPct val="62000"/>
              <a:buFont typeface="Savoye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Second Outline Level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lvl="2" marL="703800" indent="-224640">
              <a:spcBef>
                <a:spcPts val="1100"/>
              </a:spcBef>
              <a:buClr>
                <a:srgbClr val="000000"/>
              </a:buClr>
              <a:buSzPct val="62000"/>
              <a:buFont typeface="Savoye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Third Outline Level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lvl="3" marL="890640" indent="-224640">
              <a:spcBef>
                <a:spcPts val="1100"/>
              </a:spcBef>
              <a:buClr>
                <a:srgbClr val="000000"/>
              </a:buClr>
              <a:buSzPct val="62000"/>
              <a:buFont typeface="Savoye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Fourth Outline Level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lvl="4" marL="1065960" indent="-224640">
              <a:spcBef>
                <a:spcPts val="1100"/>
              </a:spcBef>
              <a:buClr>
                <a:srgbClr val="000000"/>
              </a:buClr>
              <a:buSzPct val="62000"/>
              <a:buFont typeface="Savoye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Fifth Outline Level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lvl="5" marL="1065960" indent="-224640">
              <a:spcBef>
                <a:spcPts val="1100"/>
              </a:spcBef>
              <a:buClr>
                <a:srgbClr val="000000"/>
              </a:buClr>
              <a:buSzPct val="62000"/>
              <a:buFont typeface="Savoye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Sixth Outline Level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lvl="6" marL="1065960" indent="-224640">
              <a:spcBef>
                <a:spcPts val="1100"/>
              </a:spcBef>
              <a:buClr>
                <a:srgbClr val="000000"/>
              </a:buClr>
              <a:buSzPct val="62000"/>
              <a:buFont typeface="Savoye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Seventh Outline Level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3"/>
          <a:stretch/>
        </p:blipFill>
        <p:spPr>
          <a:xfrm>
            <a:off x="11480760" y="304920"/>
            <a:ext cx="1155600" cy="113004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4"/>
          <a:stretch/>
        </p:blipFill>
        <p:spPr>
          <a:xfrm>
            <a:off x="419040" y="7759800"/>
            <a:ext cx="1612800" cy="1562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Party LET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1879560" y="2628720"/>
            <a:ext cx="449568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57000"/>
          </a:bodyPr>
          <a:p>
            <a:pPr marL="483840" indent="-324720">
              <a:spcBef>
                <a:spcPts val="1100"/>
              </a:spcBef>
              <a:buClr>
                <a:srgbClr val="000000"/>
              </a:buClr>
              <a:buSzPct val="62000"/>
              <a:buFont typeface="Savoye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Click to edit the outline text format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lvl="1" marL="678240" indent="-302040">
              <a:spcBef>
                <a:spcPts val="1100"/>
              </a:spcBef>
              <a:buClr>
                <a:srgbClr val="000000"/>
              </a:buClr>
              <a:buSzPct val="62000"/>
              <a:buFont typeface="Savoye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Second Outline Level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lvl="2" marL="872280" indent="-278640">
              <a:spcBef>
                <a:spcPts val="1100"/>
              </a:spcBef>
              <a:buClr>
                <a:srgbClr val="000000"/>
              </a:buClr>
              <a:buSzPct val="62000"/>
              <a:buFont typeface="Savoye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Third Outline Level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lvl="3" marL="1103760" indent="-278640">
              <a:spcBef>
                <a:spcPts val="1100"/>
              </a:spcBef>
              <a:buClr>
                <a:srgbClr val="000000"/>
              </a:buClr>
              <a:buSzPct val="62000"/>
              <a:buFont typeface="Savoye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Fourth Outline Level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lvl="4" marL="1320840" indent="-278640">
              <a:spcBef>
                <a:spcPts val="1100"/>
              </a:spcBef>
              <a:buClr>
                <a:srgbClr val="000000"/>
              </a:buClr>
              <a:buSzPct val="62000"/>
              <a:buFont typeface="Savoye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Fifth Outline Level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lvl="5" marL="1320840" indent="-278640">
              <a:spcBef>
                <a:spcPts val="1100"/>
              </a:spcBef>
              <a:buClr>
                <a:srgbClr val="000000"/>
              </a:buClr>
              <a:buSzPct val="62000"/>
              <a:buFont typeface="Savoye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Sixth Outline Level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lvl="6" marL="1320840" indent="-278640">
              <a:spcBef>
                <a:spcPts val="1100"/>
              </a:spcBef>
              <a:buClr>
                <a:srgbClr val="000000"/>
              </a:buClr>
              <a:buSzPct val="62000"/>
              <a:buFont typeface="Savoye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Seventh Outline Level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3"/>
          <a:stretch/>
        </p:blipFill>
        <p:spPr>
          <a:xfrm>
            <a:off x="11480760" y="304920"/>
            <a:ext cx="1155600" cy="113004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4"/>
          <a:stretch/>
        </p:blipFill>
        <p:spPr>
          <a:xfrm>
            <a:off x="419040" y="7759800"/>
            <a:ext cx="1612800" cy="1562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Party LET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1879560" y="2628720"/>
            <a:ext cx="9245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4000"/>
          </a:bodyPr>
          <a:p>
            <a:pPr marL="713160" indent="-478440">
              <a:spcBef>
                <a:spcPts val="1100"/>
              </a:spcBef>
              <a:buClr>
                <a:srgbClr val="000000"/>
              </a:buClr>
              <a:buSzPct val="62000"/>
              <a:buFont typeface="Savoye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Click to edit the outline text format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lvl="1" marL="999720" indent="-445320">
              <a:spcBef>
                <a:spcPts val="1100"/>
              </a:spcBef>
              <a:buClr>
                <a:srgbClr val="000000"/>
              </a:buClr>
              <a:buSzPct val="62000"/>
              <a:buFont typeface="Savoye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Second Outline Level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lvl="2" marL="1285200" indent="-410400">
              <a:spcBef>
                <a:spcPts val="1100"/>
              </a:spcBef>
              <a:buClr>
                <a:srgbClr val="000000"/>
              </a:buClr>
              <a:buSzPct val="62000"/>
              <a:buFont typeface="Savoye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Third Outline Level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lvl="3" marL="1626840" indent="-410400">
              <a:spcBef>
                <a:spcPts val="1100"/>
              </a:spcBef>
              <a:buClr>
                <a:srgbClr val="000000"/>
              </a:buClr>
              <a:buSzPct val="62000"/>
              <a:buFont typeface="Savoye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Fourth Outline Level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lvl="4" marL="1946520" indent="-410400">
              <a:spcBef>
                <a:spcPts val="1100"/>
              </a:spcBef>
              <a:buClr>
                <a:srgbClr val="000000"/>
              </a:buClr>
              <a:buSzPct val="62000"/>
              <a:buFont typeface="Savoye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Fifth Outline Level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lvl="5" marL="1946520" indent="-410400">
              <a:spcBef>
                <a:spcPts val="1100"/>
              </a:spcBef>
              <a:buClr>
                <a:srgbClr val="000000"/>
              </a:buClr>
              <a:buSzPct val="62000"/>
              <a:buFont typeface="Savoye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Sixth Outline Level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lvl="6" marL="1946520" indent="-410400">
              <a:spcBef>
                <a:spcPts val="1100"/>
              </a:spcBef>
              <a:buClr>
                <a:srgbClr val="000000"/>
              </a:buClr>
              <a:buSzPct val="62000"/>
              <a:buFont typeface="Savoye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Seventh Outline Level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pic>
        <p:nvPicPr>
          <p:cNvPr id="317" name="" descr=""/>
          <p:cNvPicPr/>
          <p:nvPr/>
        </p:nvPicPr>
        <p:blipFill>
          <a:blip r:embed="rId3"/>
          <a:stretch/>
        </p:blipFill>
        <p:spPr>
          <a:xfrm>
            <a:off x="11480760" y="304920"/>
            <a:ext cx="1155600" cy="1130040"/>
          </a:xfrm>
          <a:prstGeom prst="rect">
            <a:avLst/>
          </a:prstGeom>
          <a:ln w="0">
            <a:noFill/>
          </a:ln>
        </p:spPr>
      </p:pic>
      <p:pic>
        <p:nvPicPr>
          <p:cNvPr id="318" name="" descr=""/>
          <p:cNvPicPr/>
          <p:nvPr/>
        </p:nvPicPr>
        <p:blipFill>
          <a:blip r:embed="rId4"/>
          <a:stretch/>
        </p:blipFill>
        <p:spPr>
          <a:xfrm>
            <a:off x="419040" y="7759800"/>
            <a:ext cx="1612800" cy="1562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079280" y="1320480"/>
            <a:ext cx="10845720" cy="4444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000000"/>
                </a:solidFill>
                <a:latin typeface="Party LET"/>
              </a:rPr>
              <a:t>child abuse</a:t>
            </a:r>
            <a:endParaRPr b="0" lang="en-US" sz="120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476" name=""/>
          <p:cNvSpPr/>
          <p:nvPr/>
        </p:nvSpPr>
        <p:spPr>
          <a:xfrm>
            <a:off x="4817520" y="5416560"/>
            <a:ext cx="30394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Savoye LET"/>
                <a:ea typeface="Savoye LET"/>
              </a:rPr>
              <a:t>kaci miller</a:t>
            </a:r>
            <a:endParaRPr b="0" lang="en-US" sz="50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Party LET"/>
              </a:rPr>
              <a:t>the social problem</a:t>
            </a: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1879560" y="2247480"/>
            <a:ext cx="9245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900000" indent="-569880">
              <a:lnSpc>
                <a:spcPct val="100000"/>
              </a:lnSpc>
              <a:spcBef>
                <a:spcPts val="11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Child abuse is were A person that you know really well  turns out to be the one who hurts  you the most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pic>
        <p:nvPicPr>
          <p:cNvPr id="479" name="" descr=""/>
          <p:cNvPicPr/>
          <p:nvPr/>
        </p:nvPicPr>
        <p:blipFill>
          <a:blip r:embed="rId3"/>
          <a:stretch/>
        </p:blipFill>
        <p:spPr>
          <a:xfrm>
            <a:off x="8191440" y="6438960"/>
            <a:ext cx="1193760" cy="1627200"/>
          </a:xfrm>
          <a:prstGeom prst="rect">
            <a:avLst/>
          </a:prstGeom>
          <a:ln w="0">
            <a:noFill/>
          </a:ln>
        </p:spPr>
      </p:pic>
      <p:pic>
        <p:nvPicPr>
          <p:cNvPr id="480" name="" descr=""/>
          <p:cNvPicPr/>
          <p:nvPr/>
        </p:nvPicPr>
        <p:blipFill>
          <a:blip r:embed="rId4"/>
          <a:stretch/>
        </p:blipFill>
        <p:spPr>
          <a:xfrm>
            <a:off x="2030400" y="6934320"/>
            <a:ext cx="1690560" cy="850680"/>
          </a:xfrm>
          <a:prstGeom prst="rect">
            <a:avLst/>
          </a:prstGeom>
          <a:ln w="0">
            <a:noFill/>
          </a:ln>
        </p:spPr>
      </p:pic>
      <p:pic>
        <p:nvPicPr>
          <p:cNvPr id="481" name="" descr=""/>
          <p:cNvPicPr/>
          <p:nvPr/>
        </p:nvPicPr>
        <p:blipFill>
          <a:blip r:embed="rId5"/>
          <a:stretch/>
        </p:blipFill>
        <p:spPr>
          <a:xfrm>
            <a:off x="5029200" y="6464160"/>
            <a:ext cx="1574640" cy="157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Party LET"/>
              </a:rPr>
              <a:t>social problem</a:t>
            </a: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9245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900000" indent="-569880">
              <a:lnSpc>
                <a:spcPct val="100000"/>
              </a:lnSpc>
              <a:spcBef>
                <a:spcPts val="11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 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It is estimated that at least two out of every ten girls and one out of every ten boys are sexually abused by the end of their 13th year.</a:t>
            </a:r>
            <a:endParaRPr b="0" lang="en-US" sz="1800" spc="-1" strike="noStrike">
              <a:solidFill>
                <a:srgbClr val="000000"/>
              </a:solidFill>
              <a:latin typeface="Savoye LET"/>
            </a:endParaRPr>
          </a:p>
          <a:p>
            <a:pPr marL="900000" indent="-569880">
              <a:lnSpc>
                <a:spcPct val="100000"/>
              </a:lnSpc>
              <a:spcBef>
                <a:spcPts val="11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Did you know that most children who are sexually abused, are abused by a family member or close friend? Did you know that "stranger danger," by comparison, is quite rare</a:t>
            </a:r>
            <a:endParaRPr b="0" lang="en-US" sz="1800" spc="-1" strike="noStrike">
              <a:solidFill>
                <a:srgbClr val="000000"/>
              </a:solidFill>
              <a:latin typeface="Savoye LET"/>
            </a:endParaRPr>
          </a:p>
          <a:p>
            <a:pPr marL="900000" indent="-569880">
              <a:lnSpc>
                <a:spcPct val="100000"/>
              </a:lnSpc>
              <a:spcBef>
                <a:spcPts val="11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84 percent of prison inmates were abused as children</a:t>
            </a:r>
            <a:endParaRPr b="0" lang="en-US" sz="1800" spc="-1" strike="noStrike">
              <a:solidFill>
                <a:srgbClr val="000000"/>
              </a:solidFill>
              <a:latin typeface="Savoye LET"/>
            </a:endParaRPr>
          </a:p>
          <a:p>
            <a:pPr marL="900000" indent="-569880">
              <a:lnSpc>
                <a:spcPct val="100000"/>
              </a:lnSpc>
              <a:spcBef>
                <a:spcPts val="11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amilies with four or more children have higher rates of abuse and neglect, especially if their living conditions are crowded or they live in isolated areas.</a:t>
            </a:r>
            <a:endParaRPr b="0" lang="en-US" sz="1800" spc="-1" strike="noStrike">
              <a:solidFill>
                <a:srgbClr val="000000"/>
              </a:solidFill>
              <a:latin typeface="Savoye LET"/>
            </a:endParaRPr>
          </a:p>
          <a:p>
            <a:pPr marL="900000" indent="-569880">
              <a:lnSpc>
                <a:spcPct val="100000"/>
              </a:lnSpc>
              <a:spcBef>
                <a:spcPts val="11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ne out of ten babies born today are born to mothers who are abusing drugs. Drinking and smoking heavily during pregnancy also endangers the health of unborn children.</a:t>
            </a:r>
            <a:endParaRPr b="0" lang="en-US" sz="1800" spc="-1" strike="noStrike">
              <a:solidFill>
                <a:srgbClr val="000000"/>
              </a:solidFill>
              <a:latin typeface="Savoye LET"/>
            </a:endParaRPr>
          </a:p>
        </p:txBody>
      </p:sp>
      <p:pic>
        <p:nvPicPr>
          <p:cNvPr id="484" name="" descr=""/>
          <p:cNvPicPr/>
          <p:nvPr/>
        </p:nvPicPr>
        <p:blipFill>
          <a:blip r:embed="rId7"/>
          <a:stretch/>
        </p:blipFill>
        <p:spPr>
          <a:xfrm>
            <a:off x="5753160" y="7124760"/>
            <a:ext cx="1485720" cy="1778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Party LET"/>
              </a:rPr>
              <a:t>social problem</a:t>
            </a: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9245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2000"/>
          </a:bodyPr>
          <a:p>
            <a:pPr marL="828000" indent="-524160">
              <a:lnSpc>
                <a:spcPct val="100000"/>
              </a:lnSpc>
              <a:spcBef>
                <a:spcPts val="11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The disadvantage about being child abused is that you can get hurt ,beaten, and scared.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marL="828000" indent="-524160">
              <a:lnSpc>
                <a:spcPct val="100000"/>
              </a:lnSpc>
              <a:spcBef>
                <a:spcPts val="11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the advantage would be because you can tell your teacher, a parent or the police.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pic>
        <p:nvPicPr>
          <p:cNvPr id="487" name="" descr=""/>
          <p:cNvPicPr/>
          <p:nvPr/>
        </p:nvPicPr>
        <p:blipFill>
          <a:blip r:embed="rId4"/>
          <a:stretch/>
        </p:blipFill>
        <p:spPr>
          <a:xfrm>
            <a:off x="2781360" y="6997680"/>
            <a:ext cx="1701720" cy="1562040"/>
          </a:xfrm>
          <a:prstGeom prst="rect">
            <a:avLst/>
          </a:prstGeom>
          <a:ln w="0">
            <a:noFill/>
          </a:ln>
        </p:spPr>
      </p:pic>
      <p:pic>
        <p:nvPicPr>
          <p:cNvPr id="488" name="" descr=""/>
          <p:cNvPicPr/>
          <p:nvPr/>
        </p:nvPicPr>
        <p:blipFill>
          <a:blip r:embed="rId5"/>
          <a:stretch/>
        </p:blipFill>
        <p:spPr>
          <a:xfrm>
            <a:off x="5429160" y="6934320"/>
            <a:ext cx="2133720" cy="1706400"/>
          </a:xfrm>
          <a:prstGeom prst="rect">
            <a:avLst/>
          </a:prstGeom>
          <a:ln w="0">
            <a:noFill/>
          </a:ln>
        </p:spPr>
      </p:pic>
      <p:pic>
        <p:nvPicPr>
          <p:cNvPr id="489" name="" descr=""/>
          <p:cNvPicPr/>
          <p:nvPr/>
        </p:nvPicPr>
        <p:blipFill>
          <a:blip r:embed="rId6"/>
          <a:stretch/>
        </p:blipFill>
        <p:spPr>
          <a:xfrm>
            <a:off x="8826480" y="7135920"/>
            <a:ext cx="1587600" cy="1208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Party LET"/>
              </a:rPr>
              <a:t>social problem</a:t>
            </a: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9245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900000" indent="-569880">
              <a:lnSpc>
                <a:spcPct val="100000"/>
              </a:lnSpc>
              <a:spcBef>
                <a:spcPts val="11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to help solve the problem you could always tell someone that will trust you or you can get a private investigater to help arrest the guy.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pic>
        <p:nvPicPr>
          <p:cNvPr id="492" name="" descr=""/>
          <p:cNvPicPr/>
          <p:nvPr/>
        </p:nvPicPr>
        <p:blipFill>
          <a:blip r:embed="rId3"/>
          <a:stretch/>
        </p:blipFill>
        <p:spPr>
          <a:xfrm>
            <a:off x="2146320" y="6997680"/>
            <a:ext cx="1523880" cy="1498680"/>
          </a:xfrm>
          <a:prstGeom prst="rect">
            <a:avLst/>
          </a:prstGeom>
          <a:ln w="0">
            <a:noFill/>
          </a:ln>
        </p:spPr>
      </p:pic>
      <p:pic>
        <p:nvPicPr>
          <p:cNvPr id="493" name="" descr=""/>
          <p:cNvPicPr/>
          <p:nvPr/>
        </p:nvPicPr>
        <p:blipFill>
          <a:blip r:embed="rId4"/>
          <a:stretch/>
        </p:blipFill>
        <p:spPr>
          <a:xfrm>
            <a:off x="5168880" y="6616800"/>
            <a:ext cx="1270080" cy="1689120"/>
          </a:xfrm>
          <a:prstGeom prst="rect">
            <a:avLst/>
          </a:prstGeom>
          <a:ln w="0">
            <a:noFill/>
          </a:ln>
        </p:spPr>
      </p:pic>
      <p:pic>
        <p:nvPicPr>
          <p:cNvPr id="494" name="" descr=""/>
          <p:cNvPicPr/>
          <p:nvPr/>
        </p:nvPicPr>
        <p:blipFill>
          <a:blip r:embed="rId5"/>
          <a:stretch/>
        </p:blipFill>
        <p:spPr>
          <a:xfrm>
            <a:off x="7880400" y="6705720"/>
            <a:ext cx="1079280" cy="16192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